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F7A-0352-4B10-9FB0-9A6587BA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A3E-EC44-49A6-BE47-904C0D2B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9D4-9DB1-4EF8-8FF9-AC170A63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5BE-CCDD-473A-A969-E01162D7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6AC-CD23-4A3E-B6F3-5A8D5D88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C80F-CFC2-47BD-A239-1D196F41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518-FBBC-4FC5-8CED-02793DAD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654-45E6-48FC-BE81-1A0152CE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A27-BD97-484B-8A50-122E058A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5A5-6C43-4888-8917-70922380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90B-624A-4887-B463-0D7978AA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117-047A-47D7-ADD1-836E667B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C973-84E5-4884-A2B4-EA345C58B1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776240" y="2813040"/>
            <a:ext cx="684720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cc00ff"/>
                </a:solidFill>
                <a:latin typeface="Arial"/>
              </a:rPr>
              <a:t>     </a:t>
            </a:r>
            <a:r>
              <a:rPr b="1" i="1" lang="en-US" sz="4600" spc="-1" strike="noStrike">
                <a:solidFill>
                  <a:srgbClr val="cc00ff"/>
                </a:solidFill>
                <a:latin typeface="Arial"/>
              </a:rPr>
              <a:t>Lesson 14: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cc00ff"/>
                </a:solidFill>
                <a:latin typeface="Arial"/>
              </a:rPr>
              <a:t>Amazing Animal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1"/>
          <p:cNvSpPr/>
          <p:nvPr/>
        </p:nvSpPr>
        <p:spPr>
          <a:xfrm>
            <a:off x="250920" y="1128600"/>
            <a:ext cx="889308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on't forget to close the window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改为同义句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__________ ______ close the window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. I think he likes dancing. (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改为否定句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 ______ ______ he ______ dancing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. I was late for school because my bike was broken. (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对划线部分提问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______ ______ ______ late for school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1440000" y="5734080"/>
            <a:ext cx="457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ff"/>
                </a:solidFill>
                <a:latin typeface="Arial"/>
              </a:rPr>
              <a:t>Why     were     you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1964160" y="333360"/>
            <a:ext cx="1646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II. </a:t>
            </a:r>
            <a:r>
              <a:rPr b="1" lang="zh-CN" sz="3300" spc="-1" strike="noStrike">
                <a:solidFill>
                  <a:srgbClr val="008000"/>
                </a:solidFill>
                <a:latin typeface="Times New Roman"/>
              </a:rPr>
              <a:t>句型转换，每空一词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4643280" y="5013360"/>
            <a:ext cx="3961080" cy="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684360" y="5661000"/>
            <a:ext cx="1223640" cy="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324000" y="2546280"/>
            <a:ext cx="381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ff"/>
                </a:solidFill>
                <a:latin typeface="Arial"/>
              </a:rPr>
              <a:t>Remember      t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682560" y="3860640"/>
            <a:ext cx="5545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ff"/>
                </a:solidFill>
                <a:latin typeface="Arial"/>
              </a:rPr>
              <a:t>don't    think          lik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682560" y="1738440"/>
            <a:ext cx="8066160" cy="41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那位母亲细心地照料她的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ther ______ ______ her chi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efu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木材来源于树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od ______ ______ t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052360" y="5164200"/>
            <a:ext cx="30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comes  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683520" y="907920"/>
            <a:ext cx="1184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III. </a:t>
            </a:r>
            <a:r>
              <a:rPr b="1" lang="zh-CN" sz="3300" spc="-1" strike="noStrike">
                <a:solidFill>
                  <a:srgbClr val="008000"/>
                </a:solidFill>
                <a:latin typeface="Times New Roman"/>
              </a:rPr>
              <a:t>根据所给汉语意思，翻译下列句子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3278880" y="271620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looks   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547640" y="476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ff"/>
                </a:solidFill>
                <a:latin typeface="Arial"/>
              </a:rPr>
              <a:t>Homewor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079280" y="2325600"/>
            <a:ext cx="67276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ould you like to have a pet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y or why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074600" y="4486320"/>
            <a:ext cx="6337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Write a paragraph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755640" y="4653000"/>
            <a:ext cx="55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1) remind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2) lay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81840" y="549360"/>
            <a:ext cx="4019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9900"/>
                </a:solidFill>
                <a:latin typeface="Arial"/>
              </a:rPr>
              <a:t>I. Learning aim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95280" y="1268280"/>
            <a:ext cx="84297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Know about the words: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long-eared, jerboa, mouse, kiwi, lay, eggplant, shak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flap, avo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68360" y="3429000"/>
            <a:ext cx="8424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9900"/>
                </a:solidFill>
                <a:latin typeface="Arial"/>
              </a:rPr>
              <a:t>II. Learning important and difficult points: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1763640" y="685800"/>
            <a:ext cx="5113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009900"/>
                </a:solidFill>
                <a:latin typeface="Arial"/>
              </a:rPr>
              <a:t>New Word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187280" y="2205000"/>
            <a:ext cx="7274160" cy="33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808080"/>
                </a:solidFill>
                <a:latin typeface="Arial"/>
              </a:rPr>
              <a:t>long-eared           jerboa mouse                   kiwi                lay                       eggplant shake                     flap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808080"/>
                </a:solidFill>
                <a:latin typeface="Arial"/>
              </a:rPr>
              <a:t>avoi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1403280" y="1052640"/>
            <a:ext cx="5689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600" spc="-1" strike="noStrike">
                <a:solidFill>
                  <a:srgbClr val="cc3399"/>
                </a:solidFill>
                <a:latin typeface="Arial"/>
              </a:rPr>
              <a:t>Think About It 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611280" y="2205000"/>
            <a:ext cx="78483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an you name some animals you have never seen bef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Arial"/>
              </a:rPr>
              <a:t>◆ </a:t>
            </a:r>
            <a:r>
              <a:rPr b="0" lang="en-US" sz="3600" spc="-1" strike="noStrike">
                <a:solidFill>
                  <a:srgbClr val="cc00ff"/>
                </a:solidFill>
                <a:latin typeface="Arial"/>
              </a:rPr>
              <a:t>What animals do you think are amazing?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9640" y="2133720"/>
            <a:ext cx="608328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600" spc="-1" strike="noStrike">
                <a:solidFill>
                  <a:srgbClr val="009900"/>
                </a:solidFill>
                <a:latin typeface="Arial"/>
              </a:rPr>
              <a:t>Language 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i="1" lang="en-US" sz="7600" spc="-1" strike="noStrike">
                <a:solidFill>
                  <a:srgbClr val="009900"/>
                </a:solidFill>
                <a:latin typeface="Arial"/>
              </a:rPr>
              <a:t>Point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68360" y="476280"/>
            <a:ext cx="82072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Arial"/>
              </a:rPr>
              <a:t>1. With their long ears, they also remind people of rabbits. </a:t>
            </a:r>
            <a:r>
              <a:rPr b="1" lang="zh-CN" sz="3300" spc="-1" strike="noStrike">
                <a:solidFill>
                  <a:srgbClr val="ff0066"/>
                </a:solidFill>
                <a:latin typeface="Arial"/>
              </a:rPr>
              <a:t>他们有长长的耳朵，使人们想起了兔子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68360" y="2133720"/>
            <a:ext cx="79214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remind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作动词，意为“使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想起”，常用结构为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remind sb. of / about sth. 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remind sb. that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从句。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remind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还可意为“提醒”，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remind sb. to do sth.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，意为“提醒某人做某事”。如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68360" y="5373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remind me to call him back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提醒我给他回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404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2. Like all birds, they lay eggs—big eggs.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像所有鸟一样，他们也产蛋，很大的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50920" y="1628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动词，意为“放置；产（卵）”，过去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i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过去分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i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现在分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i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39640" y="3068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e black hen lays an egg a day.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那只黑母鸡每天产一个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50920" y="4221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为“躺”，常与表示场所的短语连用。过去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过去分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i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现在分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i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如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He was lying in the shade of the tree.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他正躺在树荫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124000" y="2421000"/>
            <a:ext cx="54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6600"/>
                </a:solidFill>
                <a:latin typeface="Arial"/>
              </a:rPr>
              <a:t>Exercis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2"/>
          <p:cNvSpPr/>
          <p:nvPr/>
        </p:nvSpPr>
        <p:spPr>
          <a:xfrm>
            <a:off x="179280" y="981000"/>
            <a:ext cx="8893440" cy="65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1. We all like the basketball player ______ (name) Yao M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2. The dog is ______ (run) behind the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3. Yesterday we ______ (eat) some bread for breakfa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4. That girl is ______ (scare) of snak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5. What ______ you ______ (do) at thr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o'clock yesterday afterno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2124000" y="5373720"/>
            <a:ext cx="4176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were             do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1519560" y="309600"/>
            <a:ext cx="3923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I. </a:t>
            </a:r>
            <a:r>
              <a:rPr b="1" lang="zh-CN" sz="3300" spc="-1" strike="noStrike">
                <a:solidFill>
                  <a:srgbClr val="008000"/>
                </a:solidFill>
                <a:latin typeface="Times New Roman"/>
              </a:rPr>
              <a:t>用所给单词的适当形式填空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7310160" y="1104840"/>
            <a:ext cx="1532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nam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2988360" y="2473200"/>
            <a:ext cx="1739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runn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997080" y="3265560"/>
            <a:ext cx="787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a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3037320" y="4705200"/>
            <a:ext cx="1532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scar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2:18:09Z</dcterms:created>
  <dc:creator> </dc:creator>
  <dc:description> </dc:description>
  <dc:language>en-US</dc:language>
  <cp:lastModifiedBy>Administrator</cp:lastModifiedBy>
  <dcterms:modified xsi:type="dcterms:W3CDTF">2019-01-02T02:18:55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